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c.org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9"/>
          <p:cNvSpPr/>
          <p:nvPr/>
        </p:nvSpPr>
        <p:spPr>
          <a:xfrm>
            <a:off x="3657600" y="4952880"/>
            <a:ext cx="5334120" cy="1295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ematics 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650760" y="4952880"/>
            <a:ext cx="530208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tional Council of Teachers of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&amp; 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School Mat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039920" y="3657600"/>
            <a:ext cx="4710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thematic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Science of Patter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360" rIns="90360" tIns="44280" bIns="4428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d now, "Focal Points"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5" descr="1"/>
          <p:cNvPicPr/>
          <p:nvPr/>
        </p:nvPicPr>
        <p:blipFill>
          <a:blip r:embed="rId1"/>
          <a:stretch/>
        </p:blipFill>
        <p:spPr>
          <a:xfrm>
            <a:off x="1187280" y="1676520"/>
            <a:ext cx="6769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564240" y="49320"/>
            <a:ext cx="2556000" cy="226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ematics -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946920" y="128520"/>
            <a:ext cx="2044800" cy="206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2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s and applies the concepts and procedures of mathema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athematics to define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prob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athematic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 &amp; u in both everyday and mathematical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s how mathematical idea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573080" y="3581280"/>
            <a:ext cx="3910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thematic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Languag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cience of Patter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3544560" y="5334120"/>
            <a:ext cx="5599080" cy="1125360"/>
            <a:chOff x="3544560" y="5334120"/>
            <a:chExt cx="5599080" cy="1125360"/>
          </a:xfrm>
        </p:grpSpPr>
        <p:sp>
          <p:nvSpPr>
            <p:cNvPr id="52" name="Rectangle 8"/>
            <p:cNvSpPr/>
            <p:nvPr/>
          </p:nvSpPr>
          <p:spPr>
            <a:xfrm>
              <a:off x="3551040" y="5396040"/>
              <a:ext cx="5592600" cy="717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3544560" y="5334120"/>
              <a:ext cx="554904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shington Sta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ssential Academic Learning 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564240" y="49320"/>
            <a:ext cx="2556000" cy="226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ematics -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946920" y="128520"/>
            <a:ext cx="2044800" cy="2060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2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s and applies the concepts and procedures of mathema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athematics to define and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Times New Roman"/>
              </a:rPr>
              <a:t>solve prob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athematical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Times New Roman"/>
              </a:rPr>
              <a:t>reaso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Times New Roman"/>
              </a:rPr>
              <a:t>communic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&amp; u in both everyday and mathematical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s how mathematical ideas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Times New Roman"/>
              </a:rPr>
              <a:t>conn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573080" y="3581280"/>
            <a:ext cx="3910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thematics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Languag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cience of Patter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3544560" y="5334120"/>
            <a:ext cx="5599080" cy="1125360"/>
            <a:chOff x="3544560" y="5334120"/>
            <a:chExt cx="5599080" cy="1125360"/>
          </a:xfrm>
        </p:grpSpPr>
        <p:sp>
          <p:nvSpPr>
            <p:cNvPr id="60" name="Rectangle 8"/>
            <p:cNvSpPr/>
            <p:nvPr/>
          </p:nvSpPr>
          <p:spPr>
            <a:xfrm>
              <a:off x="3551040" y="5396040"/>
              <a:ext cx="5592600" cy="717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3544560" y="5334120"/>
              <a:ext cx="554904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shington Sta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ssential Academic Learning 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120" y="41040"/>
            <a:ext cx="896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National Science Education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350520" y="914400"/>
            <a:ext cx="263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ttp://www.enc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1023840" y="1407960"/>
            <a:ext cx="648036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3693960" y="2932200"/>
            <a:ext cx="1878120" cy="234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4"/>
          <a:stretch/>
        </p:blipFill>
        <p:spPr>
          <a:xfrm>
            <a:off x="1328760" y="4529160"/>
            <a:ext cx="1487520" cy="188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5"/>
          <a:stretch/>
        </p:blipFill>
        <p:spPr>
          <a:xfrm>
            <a:off x="6132600" y="4608360"/>
            <a:ext cx="1579320" cy="206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6"/>
          <a:stretch/>
        </p:blipFill>
        <p:spPr>
          <a:xfrm>
            <a:off x="950760" y="2243160"/>
            <a:ext cx="1500480" cy="22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7"/>
          <a:stretch/>
        </p:blipFill>
        <p:spPr>
          <a:xfrm>
            <a:off x="6357960" y="2243160"/>
            <a:ext cx="189072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nents of the Science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Te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ienc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Education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Educ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31240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 Content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as inqui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sci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sci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and space sci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and technolog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in personal and social perspecti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nature of sc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29200" y="1841400"/>
            <a:ext cx="273060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ington State Science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Academic Learn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38840" indent="-43884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fe, Physical, Earth and Space 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ne Big Ideas that all students should understand in the three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ental concepts about systems and the ability to apply systems thinking to gain further insights into science and t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qui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ential knowledge about scientific inquiry and the nature of science, as well as the ability to plan and conduct scientific invest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science and technology to solve real-world problems as well as interrelationships among science, technology and societ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ctangle 5" descr=""/>
          <p:cNvPicPr/>
          <p:nvPr/>
        </p:nvPicPr>
        <p:blipFill>
          <a:blip r:embed="rId1"/>
          <a:stretch/>
        </p:blipFill>
        <p:spPr>
          <a:xfrm>
            <a:off x="-6480" y="371520"/>
            <a:ext cx="101304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3:13:28Z</dcterms:created>
  <dc:creator>Mark Roddy</dc:creator>
  <dc:description/>
  <cp:keywords/>
  <dc:language>en-US</dc:language>
  <cp:lastModifiedBy>Seattle University</cp:lastModifiedBy>
  <cp:lastPrinted>2001-10-17T14:46:24Z</cp:lastPrinted>
  <dcterms:modified xsi:type="dcterms:W3CDTF">2008-11-14T00:08:54Z</dcterms:modified>
  <cp:revision>16</cp:revision>
  <dc:subject/>
  <dc:title>Mathematics as:</dc:title>
</cp:coreProperties>
</file>